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0.png" ContentType="image/png"/>
  <Override PartName="/ppt/media/image1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258A-EA55-4205-9C6D-3AABFEBAE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592C-35F4-44F8-8C43-8D1C7C86C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C9DC-E8CD-472D-BE1D-2A4F1D724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FD41-CBB5-4BCF-93E6-154348EF0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2C3D6-22A1-454E-A51A-D50227137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51F61-291A-4B91-99CB-AC1893F6D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E1897-6C1C-4686-A882-7869696F9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15A66-D4BA-4DA7-B592-FFC2E5FAC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49706-00BA-4D27-8CE2-840A80CBF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E4D01-D7C7-4B5B-B02E-AD25B70D5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98382-5789-4160-9703-2BA1AB7F0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37DE-5B12-480A-8362-917EEF5D7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C06DA-B056-41F3-8C64-1EC1BE5D7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60ED8-D776-4BDB-A373-FE6AF854E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B017C-F584-4B0A-8B69-079F15C2A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B1DB9-8961-4649-8A3A-24FD0518E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929C7-6175-4A8B-833B-2B1494937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6C9FFF-DFD9-475A-9766-3BF055992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1BFBB2-0DD5-4C6C-AB23-60B0E3A65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879C21-0332-4F09-A8EE-314456DD2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A88049-6D9C-4B82-A322-85B04933E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FA3CD2-6343-43D7-B3E5-61FC4E97E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733D-CC3F-4BB2-B39C-C44DDE921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8FE730-2C21-444F-B036-DBD54EFFE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E69AA9-0187-474C-9415-FB0E8599F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289B72-6562-4DFE-96C4-860BD8ED1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788C93-4507-4F59-A4BD-9A5DA154F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95B3EB-66B5-44A0-9852-703AA9DED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7E5E03-7B6A-4B59-AC94-329331C74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13368F-D95C-492D-9FBF-3C894B7C4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21E54C-8EA3-4C83-89CF-24895C7EA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57D6DF-6D8D-486E-8637-D9C415B48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9A4309-AF9C-465C-8613-B98BA0C0D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7B49-61D5-4D47-BC88-CED692BFD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1EAC9C-07B2-4B1E-8487-4F0181F50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3A7731-DD64-4736-B95D-67F9EBCB7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FBD3E2-E852-4117-9D8C-222838C78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6A7133-67C9-4A2B-BC7C-AFA6C5AC9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05D9B2-C114-4454-B875-23616ECD4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E8B2D0-3DDA-4F80-834D-DDD1C613F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3924A5-A953-4C6D-823F-0AA9047FE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6FC30A-ECE8-4B79-A386-95AA478C2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698962-84F0-4E1E-B03F-C963EC200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57A262-FF71-474D-A5C7-26447CDD5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2744-71AF-485D-AAFB-AB79B7519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8FEF8F-0DD1-4B12-8485-0FB7735E9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291677-B610-4B47-8A81-A84F7D1A5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1699CB-9E27-47EC-A10D-006E35F39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33688B-D5E2-4454-BE15-DBEEFC9BB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58F24A-9E55-449D-9DB7-3A54FD107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FEB4E9-FCA8-4E52-8C6B-75F2EA618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59301E-A10B-46C1-A915-449EB2CD3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DD602F-E31F-475E-8E7B-E641DD752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D4A95B-CF6E-414F-8DE9-8A47A6A8C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91FCA3-5DBE-4862-AB97-AD2E52042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675E-9536-45BD-B6EA-68850B6FE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636203-41A6-437D-B763-D209D0628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4BC514-446D-4F31-BC70-B4E65CD2E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C52278-1CA4-4110-AAEB-68DBD3483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117601-3392-42B7-BC37-F57747FA0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19D5E0-8BF4-477B-AEB9-5587C4B75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F63F51-9EB8-4C43-A0A7-FBB1317A4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4486AC-301C-4B82-915D-5FE946AA6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C49AE1-329F-4DA4-B055-8F384ABE9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29FD25-0F69-49F4-9FC2-FF2FDFD6C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BA1894-444F-4D0D-97D8-CC6DFF637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8EF1-4B20-4466-AA80-96FC64B35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665391-0089-4E60-B3F5-B4809056C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BFBFD7-4C25-4198-A0F6-2389CFC90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1D448E-723E-4F04-BF1D-955756F9C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2CFDB9-3780-4EDF-9DA9-15882E3A9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AF843A-0CEC-4AE2-8AF0-40175C8E7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8C1737-0FC1-43D3-B5A0-AB30B7053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EDF9E5-46A4-48D6-9200-4D040D615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3F55A4-2DDB-4A77-9B22-0B940C3CA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EBE900-4856-482C-B4F3-50D03F6A4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600A29-09ED-4C2C-A222-3B9C4152F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4DD1-6891-4542-82C4-C2F074842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E363D4-2359-4296-A14F-B48CC5F34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AB628C-3211-441E-B255-40D27DAE9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B0DEB7-84A5-4AA7-95AA-299909625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8F4764-0B91-4C73-A7B0-E5435BE1B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3B7DD0-2644-446C-B2AB-FDA1D4198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4F53D7-D01B-4F69-AC25-90493798A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962048-62D1-41F0-B571-4ECC113FC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90A6E0-0F78-42AA-8958-0CB0124E8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BEB8D5-96F2-4F0C-A6D9-62835E2F0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9FA617-B523-4AF6-BF90-F8E149DDC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1AE6-ABCE-4606-83ED-74B38C1C8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1E1545-85CC-4423-ADC3-C663B282A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D11B1B-3896-455B-8F5D-130A44DC0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D56B2D-96D8-42CD-A88D-8843E2381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EB76AC-7BB5-4E7F-8E8A-AB81AFC00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71DD91-73D4-4280-B06E-1761C04C2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F3730C-A832-47EF-8268-7BC30AC6F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CC8F66-B072-481D-B667-F994695C0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961EE-E0E5-4A10-8993-C71569380939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FC437-D9A6-4C44-9DDB-2F77B7DEDFE5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9E573-15C3-492A-B878-C08589625B6E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3B410-0769-42EA-A01C-B1F435039F77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20FD7-737A-4CF9-A44A-FD56D05198DE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8CB26-9F8F-491C-92B3-4736FCB47E47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820F4-5B91-4D8E-AA3A-87CF3875AA0C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26B71-6335-417C-8F13-199C2914D6BF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le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If Vicki had won the lottery, she would have retired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hy do we use the past unreal conditional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hat do both parts of the sentence describe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se would have in the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result clause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o mean regre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70c0"/>
                </a:solidFill>
                <a:latin typeface="Lucida Sans Unicode"/>
              </a:rPr>
              <a:t>If Amy had received treatment,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she wouldn’t have died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1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hat does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would have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scribe in the result clause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3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se could have in the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result clause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o mean possibilit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b0f0"/>
                </a:solidFill>
                <a:latin typeface="Lucida Sans Unicode"/>
              </a:rPr>
              <a:t>If her parents had believed in medicine,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Amy could have lived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5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hat does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could have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scribe in the result clause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7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se might have in the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result clause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o mean uncertainty about the resul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b0f0"/>
                </a:solidFill>
                <a:latin typeface="Lucida Sans Unicode"/>
              </a:rPr>
              <a:t>If Norman hadn’t used laugh therapy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,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he might have died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9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hat does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might have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scribe in the result clause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1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ast unreal conditionals have two clauses ( a clause is a groups of words that have a subject + verb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if claus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result clause (main clause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b0f0"/>
                </a:solidFill>
                <a:latin typeface="Lucida Sans Unicode"/>
              </a:rPr>
              <a:t>(if clause)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f</a:t>
            </a:r>
            <a:r>
              <a:rPr b="0" lang="en-US" sz="2700" spc="-1" strike="noStrike">
                <a:solidFill>
                  <a:srgbClr val="00b0f0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my had received treatment,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(result clause)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he might not have died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3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ow many clauses are found in a past unreal conditional statement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hat is a clause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hat do we call the clauses in a part unreal conditional statement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5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b0f0"/>
                </a:solidFill>
                <a:latin typeface="Lucida Sans Unicode"/>
              </a:rPr>
              <a:t>If Clause (unreal condition)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If + subject + past perfect</a:t>
            </a:r>
            <a:r>
              <a:rPr b="0" lang="en-US" sz="2500" spc="-1" strike="noStrike">
                <a:solidFill>
                  <a:srgbClr val="ff0000"/>
                </a:solidFill>
                <a:latin typeface="Lucida Sans Unicode"/>
              </a:rPr>
              <a:t>,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Lucida Sans Unicode"/>
              </a:rPr>
              <a:t>Result Clause (what would have happened)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subject + would (not) have + past participle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                 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could (not) have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                 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might (not) have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b0f0"/>
                </a:solidFill>
                <a:latin typeface="Lucida Sans Unicode"/>
              </a:rPr>
              <a:t>(unreal condition)       </a:t>
            </a:r>
            <a:r>
              <a:rPr b="0" lang="en-US" sz="2500" spc="-1" strike="noStrike">
                <a:solidFill>
                  <a:srgbClr val="ff0000"/>
                </a:solidFill>
                <a:latin typeface="Lucida Sans Unicode"/>
              </a:rPr>
              <a:t>(what would have happened)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If he hadn’t used laugh therapy, Norman would not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have recovered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7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ad + past participle of verb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egular past participle  verb + ed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x.had talke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rregular past participle  exampl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Go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ad gon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e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ad be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ave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ad ha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ake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ad tak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9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ow do we form the if clause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ow do we form the past perfect for regular verbs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ow do we form the past perfect for irregular verbs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hat three ways can we form the result clause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Lucida Sans Unicode"/>
              </a:rPr>
              <a:t>Result Clause (what would have happened)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Subject + would (not) have + past participle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                 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could (not) have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                 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might (not) have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b0f0"/>
                </a:solidFill>
                <a:latin typeface="Lucida Sans Unicode"/>
              </a:rPr>
              <a:t>If Clause (unreal condition)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If + subject + past perfect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Lucida Sans Unicode"/>
              </a:rPr>
              <a:t>(what would have happened)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        </a:t>
            </a:r>
            <a:r>
              <a:rPr b="0" lang="en-US" sz="2500" spc="-1" strike="noStrike">
                <a:solidFill>
                  <a:srgbClr val="00b0f0"/>
                </a:solidFill>
                <a:latin typeface="Lucida Sans Unicode"/>
              </a:rPr>
              <a:t>(unreal condition)   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Norman would not have recovered if he hadn’t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used laugh therapy.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hat does the if clause tell us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hat does the result clause tell us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dentify the if clause and the result clause in this sentenc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 might have passed the quiz if I had studied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alk about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past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nreal, untrue, or imagined conditions and their result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oth parts of the sentence describe events that are the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opposite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of what happened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b0f0"/>
                </a:solidFill>
                <a:latin typeface="Lucida Sans Unicode"/>
              </a:rPr>
              <a:t>Conditional statement: 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Norman would not have recovered if He hadn’t used laugh therapy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What really happened? 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e recovered. He used laugh therapy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2T23:07:27Z</dcterms:created>
  <dc:creator> </dc:creator>
  <dc:description/>
  <dc:language>en-US</dc:language>
  <cp:lastModifiedBy> </cp:lastModifiedBy>
  <dcterms:modified xsi:type="dcterms:W3CDTF">2011-02-13T00:49:52Z</dcterms:modified>
  <cp:revision>4</cp:revision>
  <dc:subject/>
  <dc:title>Past Unreal Conditionals</dc:title>
</cp:coreProperties>
</file>